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96F-CEA1-425E-859F-7B5E7AAD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EBE-72C2-4742-A704-CECC3EAD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E05-7F9B-4AA2-BEBB-E9CA1A2C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88C-97E5-4820-8290-45C2959C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0FD-BC36-4B8B-9BE4-04B4BB7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AAE-1A29-4772-BE4D-91E572B7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AB3-ADBA-4ED8-BDBB-2A53377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01E-4565-46B1-8D6E-A12557C9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970-2013-4401-98AE-ECF31C93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C44-9748-4791-9AA0-47EE17D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0C8-F6DF-4E2C-A25C-31ABDD3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0F3-3CFB-4BA9-9374-6AF96359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72CB-C8D4-4359-AC0B-CC85F3C49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ЧИГОЛЬ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ЧИГОЛЬСКОЕ СЕЛЬСКОЕ ПОСЕЛЕНИЕ, 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 решению Совета народных депутатов СТАРОЧИГОЛЬ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7.12.2022 года  № 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 СТАРОЧИГОЛЬСКОГО сельского поселения на 2023 год и на плановый период 2024 и 2025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428840" y="714240"/>
          <a:ext cx="5622840" cy="2971800"/>
        </p:xfrm>
        <a:graphic>
          <a:graphicData uri="http://schemas.openxmlformats.org/drawingml/2006/table">
            <a:tbl>
              <a:tblPr/>
              <a:tblGrid>
                <a:gridCol w="315720"/>
                <a:gridCol w="3719520"/>
                <a:gridCol w="866880"/>
                <a:gridCol w="720720"/>
              </a:tblGrid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92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о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1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1" descr=""/>
          <p:cNvPicPr/>
          <p:nvPr/>
        </p:nvPicPr>
        <p:blipFill>
          <a:blip r:embed="rId2"/>
          <a:stretch/>
        </p:blipFill>
        <p:spPr>
          <a:xfrm>
            <a:off x="993600" y="3706920"/>
            <a:ext cx="6870960" cy="31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11" descr=""/>
          <p:cNvPicPr/>
          <p:nvPr/>
        </p:nvPicPr>
        <p:blipFill>
          <a:blip r:embed="rId3"/>
          <a:stretch/>
        </p:blipFill>
        <p:spPr>
          <a:xfrm>
            <a:off x="706320" y="4138560"/>
            <a:ext cx="7888320" cy="22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Старочиголь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054080"/>
            <a:ext cx="889920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Старочиголь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Старочиголь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линова Ольг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12, Воронежская область, Аннинский райо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.Старая Чигла  ул. Ленина, дом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(47346)42232, 42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ldchig.anna@govvrn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25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786120"/>
            <a:ext cx="70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Бюджет  Старочигольского сельского поселения на 2023 год и на плановый период 2024 и 2025 годов сформирован в программном формате. Всего на данный момент в Старочиголь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071720" y="4857840"/>
            <a:ext cx="707220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Старочигольского сельского поселения и управление финансами в поселении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Старочиголь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Старочиголь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3572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0040" y="928800"/>
          <a:ext cx="8215200" cy="127944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2644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0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76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59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263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0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6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3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7" name="Диаграмма 14" descr=""/>
          <p:cNvPicPr/>
          <p:nvPr/>
        </p:nvPicPr>
        <p:blipFill>
          <a:blip r:embed="rId2"/>
          <a:stretch/>
        </p:blipFill>
        <p:spPr>
          <a:xfrm>
            <a:off x="633240" y="2639880"/>
            <a:ext cx="7804440" cy="301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032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00040" y="3571920"/>
          <a:ext cx="7929720" cy="3143160"/>
        </p:xfrm>
        <a:graphic>
          <a:graphicData uri="http://schemas.openxmlformats.org/drawingml/2006/table">
            <a:tbl>
              <a:tblPr/>
              <a:tblGrid>
                <a:gridCol w="4071960"/>
                <a:gridCol w="1928880"/>
                <a:gridCol w="1928880"/>
              </a:tblGrid>
              <a:tr h="176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3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2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57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1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8" descr=""/>
          <p:cNvPicPr/>
          <p:nvPr/>
        </p:nvPicPr>
        <p:blipFill>
          <a:blip r:embed="rId2"/>
          <a:stretch/>
        </p:blipFill>
        <p:spPr>
          <a:xfrm>
            <a:off x="920880" y="853920"/>
            <a:ext cx="7497720" cy="565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Пользователь Windows</cp:lastModifiedBy>
  <dcterms:modified xsi:type="dcterms:W3CDTF">2024-08-05T08:49:39Z</dcterms:modified>
  <cp:revision>86</cp:revision>
  <dc:subject/>
  <dc:title>Слайд 1</dc:title>
</cp:coreProperties>
</file>