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422-5B5D-4C6B-866F-9003105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1FB-2229-4F4F-AEEF-B39CE7F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373-9EE3-4C75-AC2A-5185ACEA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9F2-7254-4C2B-AF46-7191A2D5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EC5-7E9D-4FA8-9A7F-54F8A83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DB4-8CE4-4E63-BCB6-7F650CE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A64-CE8D-4256-A72D-69A7C22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3BC-450F-40F9-9924-8BE09DC8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8C3-FACB-46E1-8397-528F92C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8E9-0C00-4995-B8C4-DBDE1581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5BF-7D50-4E57-8542-4BA602B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948-6D58-487C-BE12-0513B8D8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B35-B750-4E73-911B-9D27BF735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ЧИГОЛЬ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ЧИГОЛЬСКОЕ СЕЛЬ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проекту  решения Совета народных депутатов СТАРОЧИГОЛЬ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__________года  №  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 СТАРОЧИГОЛЬСКОГО сельского поселения на 2023 год и на плановый период 2024 и 2025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28840" y="714240"/>
          <a:ext cx="5622840" cy="2971800"/>
        </p:xfrm>
        <a:graphic>
          <a:graphicData uri="http://schemas.openxmlformats.org/drawingml/2006/table">
            <a:tbl>
              <a:tblPr/>
              <a:tblGrid>
                <a:gridCol w="315720"/>
                <a:gridCol w="3719520"/>
                <a:gridCol w="866880"/>
                <a:gridCol w="720720"/>
              </a:tblGrid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о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1" descr=""/>
          <p:cNvPicPr/>
          <p:nvPr/>
        </p:nvPicPr>
        <p:blipFill>
          <a:blip r:embed="rId2"/>
          <a:stretch/>
        </p:blipFill>
        <p:spPr>
          <a:xfrm>
            <a:off x="993600" y="3706920"/>
            <a:ext cx="687096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1" descr=""/>
          <p:cNvPicPr/>
          <p:nvPr/>
        </p:nvPicPr>
        <p:blipFill>
          <a:blip r:embed="rId3"/>
          <a:stretch/>
        </p:blipFill>
        <p:spPr>
          <a:xfrm>
            <a:off x="706320" y="4138560"/>
            <a:ext cx="788832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чиголь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чиг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чиголь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линова Ольг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.Старая Чигла  ул. Ленина, дом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42232, 42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ldchig.anna@govvrn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25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Старочигольского сельского поселения на 2023 год и на плановый период 2024 и 2025 годов сформирован в программном формате. Всего на данный момент в Старочиголь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071720" y="4857840"/>
            <a:ext cx="707220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Старочигольского сельского поселения и управление финансами в поселении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чиголь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чиг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3572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928800"/>
          <a:ext cx="8215200" cy="12794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2644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0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7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5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26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0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6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3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4" descr=""/>
          <p:cNvPicPr/>
          <p:nvPr/>
        </p:nvPicPr>
        <p:blipFill>
          <a:blip r:embed="rId2"/>
          <a:stretch/>
        </p:blipFill>
        <p:spPr>
          <a:xfrm>
            <a:off x="633240" y="2639880"/>
            <a:ext cx="7804440" cy="301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03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00040" y="3571920"/>
          <a:ext cx="7929720" cy="3143160"/>
        </p:xfrm>
        <a:graphic>
          <a:graphicData uri="http://schemas.openxmlformats.org/drawingml/2006/table">
            <a:tbl>
              <a:tblPr/>
              <a:tblGrid>
                <a:gridCol w="407196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7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8" descr=""/>
          <p:cNvPicPr/>
          <p:nvPr/>
        </p:nvPicPr>
        <p:blipFill>
          <a:blip r:embed="rId2"/>
          <a:stretch/>
        </p:blipFill>
        <p:spPr>
          <a:xfrm>
            <a:off x="920880" y="853920"/>
            <a:ext cx="7497720" cy="565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8-05T08:48:56Z</dcterms:modified>
  <cp:revision>86</cp:revision>
  <dc:subject/>
  <dc:title>Слайд 1</dc:title>
</cp:coreProperties>
</file>