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40D-B71D-424F-BC7B-0C209C04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922-0198-4CCC-B4E4-029BD6E4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CBB-BC67-46E6-845C-995C6DD6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FA9-8673-49A4-91AA-B9815606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97E-8D4E-4E5E-8CF1-EF9A16DE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CAE-BBF0-4455-B872-5F580259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7DE-412A-4743-91F4-1627AAF1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60C-B444-47DE-A010-5D4DEF35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271-2AD8-4E9C-9CFF-B746CB02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D1D-D467-44AF-8437-D6A0361E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018-C07C-4DA4-830B-8A08335A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935-41CB-4051-9E93-BDBF4F0E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AEF9-9F3C-4A06-861E-A490CAF220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ЧИГОЛЬ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6430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ЧИГОЛЬСКОЕ ПОСЕЛЕНИЕ, 202</a:t>
            </a:r>
            <a:r>
              <a:rPr b="1" lang="en-US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Старочигольского сель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Старочигольского сельского поселения в 2023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2960" y="1285920"/>
          <a:ext cx="8143920" cy="4143240"/>
        </p:xfrm>
        <a:graphic>
          <a:graphicData uri="http://schemas.openxmlformats.org/drawingml/2006/table">
            <a:tbl>
              <a:tblPr/>
              <a:tblGrid>
                <a:gridCol w="719280"/>
                <a:gridCol w="3795480"/>
                <a:gridCol w="1424160"/>
                <a:gridCol w="1050840"/>
                <a:gridCol w="1154160"/>
              </a:tblGrid>
              <a:tr h="753840">
                <a:tc>
                  <a:txBody>
                    <a:bodyPr lIns="3430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точненный план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7484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АСХОДЫ,ВСЕГО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6 46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6 46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 20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 20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31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 31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 31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71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 8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 8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2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2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53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Межбюджетные трансферты общего характера бюджетам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Старочигольского сельского 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Диаграмма 8" descr=""/>
          <p:cNvPicPr/>
          <p:nvPr/>
        </p:nvPicPr>
        <p:blipFill>
          <a:blip r:embed="rId2"/>
          <a:stretch/>
        </p:blipFill>
        <p:spPr>
          <a:xfrm>
            <a:off x="-79200" y="920880"/>
            <a:ext cx="92296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3" name="Диаграмма 11" descr=""/>
          <p:cNvPicPr/>
          <p:nvPr/>
        </p:nvPicPr>
        <p:blipFill>
          <a:blip r:embed="rId3"/>
          <a:stretch/>
        </p:blipFill>
        <p:spPr>
          <a:xfrm>
            <a:off x="633240" y="3638520"/>
            <a:ext cx="8004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9"/>
          <p:cNvSpPr/>
          <p:nvPr/>
        </p:nvSpPr>
        <p:spPr>
          <a:xfrm>
            <a:off x="571680" y="1720800"/>
            <a:ext cx="81435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Старочигольского  сельского поселения за 2023 год дефицитный (расходы превысили доходы на 944,7 тыс.руб.). Денежные средства на покрытие дефицита взяты с остатков средств  бюджета на начало 01.01.2023г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3г. составило – 87,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42920" y="1071720"/>
            <a:ext cx="871524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Старочиголь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Блинова Ольга Владимир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396212,Воронежская область, Аннинский райо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c.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Старая Чигла, ул.Ленина.д.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(47346)42232,42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ldchig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 Старочиголь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Старочигольского сельского поселения Аннинского муниципального района в 2023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Старочигольского сельского поселения за 202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85960" y="1143000"/>
          <a:ext cx="5429160" cy="1692360"/>
        </p:xfrm>
        <a:graphic>
          <a:graphicData uri="http://schemas.openxmlformats.org/drawingml/2006/table">
            <a:tbl>
              <a:tblPr/>
              <a:tblGrid>
                <a:gridCol w="1085760"/>
                <a:gridCol w="1085760"/>
                <a:gridCol w="1086120"/>
                <a:gridCol w="1085760"/>
                <a:gridCol w="1085760"/>
              </a:tblGrid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 496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 52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023,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051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473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473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 469,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 469,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972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944,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Диаграмма 8" descr=""/>
          <p:cNvPicPr/>
          <p:nvPr/>
        </p:nvPicPr>
        <p:blipFill>
          <a:blip r:embed="rId2"/>
          <a:stretch/>
        </p:blipFill>
        <p:spPr>
          <a:xfrm>
            <a:off x="1420920" y="2992320"/>
            <a:ext cx="603396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785960" y="3571920"/>
          <a:ext cx="5232240" cy="3128760"/>
        </p:xfrm>
        <a:graphic>
          <a:graphicData uri="http://schemas.openxmlformats.org/drawingml/2006/table">
            <a:tbl>
              <a:tblPr/>
              <a:tblGrid>
                <a:gridCol w="2298600"/>
                <a:gridCol w="978120"/>
                <a:gridCol w="977760"/>
                <a:gridCol w="977760"/>
              </a:tblGrid>
              <a:tr h="430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3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3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4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2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18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18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49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52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142920" y="14292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Старочигольского сельского поселения в 202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20920"/>
            <a:ext cx="4979880" cy="491328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1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2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3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4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Пользователь Windows</cp:lastModifiedBy>
  <dcterms:modified xsi:type="dcterms:W3CDTF">2024-08-05T08:28:55Z</dcterms:modified>
  <cp:revision>90</cp:revision>
  <dc:subject/>
  <dc:title>Слайд 1</dc:title>
</cp:coreProperties>
</file>