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D94-2D43-40F7-A8D4-5FD41F87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406-8820-45EC-9A8F-8C5E1011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EF2-E538-4BF5-ABC3-1DF48F98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2B7-58BE-43C1-88EC-FB2638EE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55A-FD86-4759-9E65-4BA816D5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8C8-B551-4C0D-8A94-1B3CC841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44F-A919-4243-AED2-CA171F8E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928-2D2C-4A45-A03B-7206BE22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DEA-3657-48E6-8FD0-00570386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C0C-A2AA-46D0-A31F-942FD8C3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080-3617-4A61-986A-A1E70A07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EB8-5543-4720-B525-2A0264C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AF20-338A-416A-AF2D-15842B9FA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ВЕРХНЕТОЙДЕНСКОГО СЕЛЬСКОГО/ГОРОД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6430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ВЕРХНЕТОЙДЕНСКОЕ СЕЛЬ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Верхнетойденского сель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Верхнетойденского сельского поселения в 2023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00120" y="1357200"/>
          <a:ext cx="6096240" cy="2739960"/>
        </p:xfrm>
        <a:graphic>
          <a:graphicData uri="http://schemas.openxmlformats.org/drawingml/2006/table">
            <a:tbl>
              <a:tblPr/>
              <a:tblGrid>
                <a:gridCol w="538200"/>
                <a:gridCol w="2841480"/>
                <a:gridCol w="1065240"/>
                <a:gridCol w="1032120"/>
                <a:gridCol w="619200"/>
              </a:tblGrid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точненный план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сполнено, тыс.руб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303120" rIns="0" tIns="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Ы,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82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82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46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46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3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3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79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79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475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жбюджетные трансферты общего характера бюджетам муниципальных образова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Верхнетойденского сель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Диаграмма 7" descr=""/>
          <p:cNvPicPr/>
          <p:nvPr/>
        </p:nvPicPr>
        <p:blipFill>
          <a:blip r:embed="rId2"/>
          <a:stretch/>
        </p:blipFill>
        <p:spPr>
          <a:xfrm>
            <a:off x="291960" y="639720"/>
            <a:ext cx="85600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9" descr=""/>
          <p:cNvPicPr/>
          <p:nvPr/>
        </p:nvPicPr>
        <p:blipFill>
          <a:blip r:embed="rId3"/>
          <a:stretch/>
        </p:blipFill>
        <p:spPr>
          <a:xfrm>
            <a:off x="633240" y="3565440"/>
            <a:ext cx="7407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571680" y="1720800"/>
            <a:ext cx="81435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Верхнетойденского  сельского поселения за 2023 год дефицитный (расходы превысили доходы на 1014,9 тыс.руб.). Денежные средства на покрытие дефицита взяты с остатков средств  бюджета на начало 01.01.2023г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3г. составило – 73,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920" y="1071720"/>
            <a:ext cx="871524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Верхнетойденского сельского  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Короткова Ольга Олег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396210, Воронежская область, Аннинский район, с.Верхняя Тойда, ул. Ленина,д.4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(47346) 4-45-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verhtoyd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Верхнетойден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Верхнетойденского сельского поселения Аннинского муниципального района в 2023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Верхнетойденского сельского поселения за 202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8880" y="1071720"/>
          <a:ext cx="5381640" cy="1749240"/>
        </p:xfrm>
        <a:graphic>
          <a:graphicData uri="http://schemas.openxmlformats.org/drawingml/2006/table">
            <a:tbl>
              <a:tblPr/>
              <a:tblGrid>
                <a:gridCol w="504720"/>
                <a:gridCol w="1219320"/>
                <a:gridCol w="1218960"/>
                <a:gridCol w="1219320"/>
                <a:gridCol w="1219320"/>
              </a:tblGrid>
              <a:tr h="307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672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814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572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128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197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544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617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829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829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156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1014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118" name="Диаграмма 25" descr=""/>
          <p:cNvPicPr/>
          <p:nvPr/>
        </p:nvPicPr>
        <p:blipFill>
          <a:blip r:embed="rId2"/>
          <a:stretch/>
        </p:blipFill>
        <p:spPr>
          <a:xfrm>
            <a:off x="1494000" y="2992320"/>
            <a:ext cx="62974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032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42920" y="3571920"/>
          <a:ext cx="8858160" cy="3128760"/>
        </p:xfrm>
        <a:graphic>
          <a:graphicData uri="http://schemas.openxmlformats.org/drawingml/2006/table">
            <a:tbl>
              <a:tblPr/>
              <a:tblGrid>
                <a:gridCol w="3890880"/>
                <a:gridCol w="1655640"/>
                <a:gridCol w="1656000"/>
                <a:gridCol w="1655640"/>
              </a:tblGrid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3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3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5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6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6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20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27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67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8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142920" y="14292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Верхнетойденского сель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1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2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3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4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6</cp:lastModifiedBy>
  <dcterms:modified xsi:type="dcterms:W3CDTF">2024-06-24T13:42:03Z</dcterms:modified>
  <cp:revision>85</cp:revision>
  <dc:subject/>
  <dc:title>Слайд 1</dc:title>
</cp:coreProperties>
</file>